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6.png" ContentType="image/png"/>
  <Override PartName="/ppt/media/image7.png" ContentType="image/png"/>
  <Override PartName="/ppt/media/image12.wmf" ContentType="image/x-wmf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5.jpeg" ContentType="image/jpeg"/>
  <Override PartName="/ppt/media/image10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31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36.jpeg" ContentType="image/jpeg"/>
  <Override PartName="/ppt/media/image20.png" ContentType="image/png"/>
  <Override PartName="/ppt/media/image19.png" ContentType="image/png"/>
  <Override PartName="/ppt/media/image21.jpeg" ContentType="image/jpeg"/>
  <Override PartName="/ppt/media/image29.png" ContentType="image/png"/>
  <Override PartName="/ppt/media/image3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0" y="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3970440" y="0"/>
            <a:ext cx="3039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26000" cy="34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6080" bIns="46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3080" y="4416120"/>
            <a:ext cx="5591160" cy="41670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0" y="88297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3970440" y="8827920"/>
            <a:ext cx="3024000" cy="4492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B8B76B3B-E978-4CA0-8F15-9E5FFF20BA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6"/>
          <p:cNvSpPr/>
          <p:nvPr/>
        </p:nvSpPr>
        <p:spPr>
          <a:xfrm>
            <a:off x="3970440" y="8827920"/>
            <a:ext cx="3024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240C8128-1026-4CFC-934F-FA3321C6F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3970440" y="8829720"/>
            <a:ext cx="3039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7FE2ADC3-5B01-4996-8B50-BA1D4A15B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155600" y="696960"/>
            <a:ext cx="4700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03080" y="4416480"/>
            <a:ext cx="55926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1EE6-B6F6-4B07-95C8-DD89C4EB9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4760-037E-4715-8638-02DC8C6BA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E3C6-78CB-4882-914B-704BE0130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BC00-7327-44FA-B12A-FACB13F43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B558-447E-4B83-82B5-1619C0B52D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B711-631B-43B4-A1C1-893EB56191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8F73-FF77-4DEB-A811-0BEA28F1E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DEDD-6C5A-4691-A548-9A7BCC002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B591-7B05-4502-906B-1E9DA039DC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CBA5-31F6-4497-8959-D2AACF0B3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9D1C-E5DF-4BF4-8C63-FFE8E8DDC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25CC-87CD-41EA-A551-87D0E0FF6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793C-0EDB-480A-842A-42AFE553B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8271-B75B-4CD6-BC54-6C5F8D79F4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03E2-923D-4874-ADEC-37E7B4FCD4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2501-9F26-416D-873D-BAD67642E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7B8E-6B17-4AD7-BB53-F51AEA7C67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482-6678-4E84-A2DC-AA68436BA1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490-C3B7-42BD-9464-BA40136B1F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A64-FB82-420E-87AF-E0CD6CF7F1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EBA-1C41-4C28-8EDC-5691433992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FFB-8543-44AF-A5CC-5AF1B9979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1E48-54E7-44BB-973E-442FDA7486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9D9-0CC8-4BED-997C-7D1141A227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59A-3018-4A78-AA30-7483686E90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4AA-0525-4C5C-9012-601B9F5BA4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31A-282D-472B-A66B-3637E1D29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910-4D74-450E-83E0-2D05CFA1BF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316-45F7-4EBC-9CF1-0E7733BBBE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27F-DF2A-4C3E-B5B7-1B3455265E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BF183-A76A-4E68-8441-3F7339D54A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8C108-BFF5-42FA-A068-6DD1E6B2A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358C1-EACE-4803-92CB-7E14B234A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85F1-EB60-4A7F-A33F-3F41E6A152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03505-07E1-4021-8641-BB5FE32E2D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DB918-69C3-4143-ACAC-899F32954E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7EDAF-BB39-43E0-A1F6-B70A613024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6D756-C50B-4B56-ABA5-CE377A1620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296CE-4365-46D9-85C8-E4C7D146C5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7E459-DCBC-4EB9-9920-4F8EB305AC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172E-91F4-4B85-AD93-860BCA335C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2274-EF83-4BDA-9939-E14C794C25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17AFE-B24A-4B8E-AFF5-6F404F9F4B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7B3E5-09BD-442C-94DE-2E15600DD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EF5D-B7FD-4116-AA61-085A953C8E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3CC20-F90C-4DF0-9C45-04A00FF29A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ED57-79E9-42FF-8569-BB83BEEA0E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E72A-4ACF-4439-B176-D77F1E84A4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3451-1BD3-4921-BC96-DBCFA6F7AA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0405-8B9E-4FB5-9C60-B84CE51FC4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AB1BE-138B-4B45-A0DC-877EE1061C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BCD8-53CC-492B-B2B1-C90C86FDE6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26635-A8ED-4636-85FE-734390B437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B773B-A708-4B79-B969-601E64C0C0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9085-FFA3-4F9E-BDAD-2785F7210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535E-31EB-4705-94C8-318130F771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C9CD3-B06C-4F97-8A71-6B11FEB471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8341-F932-4554-BF12-ED8E6E1EA5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DAE-68D9-4DD7-B6CF-A11A129946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BF09-4AFC-4F23-A30C-DD7B2CD61B2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AD6-5F1B-4473-B6C8-5786B0FA88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454C-F2EA-4F6C-A35E-E3F8FA83A4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8874-4EEB-42AD-BD4B-43B4677B56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F94-4E57-4A9E-B382-CF3E30831C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D54-09D0-4674-AF4B-9D34F0D6CE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D458-F320-4F55-8831-66A916B3C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42DB-EF3A-4FA6-905C-639D46BC90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A2DD-9D66-4D03-A4EF-A01686D00E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234F-B902-43AF-828F-47A98382BC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392A-3C83-4FCF-B210-22E0F9419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41E4-552D-476E-822D-BBEE7D387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A5BB-C322-4FE4-8C91-1CAE6C34F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45D4F-DDB9-433C-B67E-A39FAC051EA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8458200" y="609588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663D-83AE-4AE3-9FFB-600FEB9BAA2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D0CB4-0A24-47FF-81AC-AFF04BE9AC6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4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F2575-FCD9-4FFD-9C2F-B7C9544D5E7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5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978E1-7B33-4A15-8DCD-7EC5E189B0B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6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A1D9A-7F2A-440B-8B21-9A58DFC8AD3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9"/>
          <p:cNvSpPr/>
          <p:nvPr/>
        </p:nvSpPr>
        <p:spPr>
          <a:xfrm>
            <a:off x="0" y="687240"/>
            <a:ext cx="8747280" cy="1293840"/>
          </a:xfrm>
          <a:prstGeom prst="rect">
            <a:avLst/>
          </a:prstGeom>
          <a:solidFill>
            <a:srgbClr val="4cfa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0" y="60948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ystal Calorimeter R&amp;D for the Electron-Ion Collider (E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67"/>
          <p:cNvSpPr/>
          <p:nvPr/>
        </p:nvSpPr>
        <p:spPr>
          <a:xfrm>
            <a:off x="287280" y="2774880"/>
            <a:ext cx="8856720" cy="1263600"/>
          </a:xfrm>
          <a:prstGeom prst="rect">
            <a:avLst/>
          </a:prstGeom>
          <a:solidFill>
            <a:srgbClr val="96fcb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228600" y="2819520"/>
            <a:ext cx="885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 Carmignotto, Gabriel Charl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nja Ho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ulia Hull, Carlos Munoz-Camacho, Arthur Mkrtchyan, Hamlet Mkrtchyan, Indra Sapkota, Sean Stoll, Craig Woody, Renyuan Z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2"/>
          <p:cNvSpPr/>
          <p:nvPr/>
        </p:nvSpPr>
        <p:spPr>
          <a:xfrm>
            <a:off x="4533840" y="4268880"/>
            <a:ext cx="4381560" cy="1598400"/>
          </a:xfrm>
          <a:prstGeom prst="rect">
            <a:avLst/>
          </a:prstGeom>
          <a:solidFill>
            <a:srgbClr val="cefed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2" descr="CUAcenterstacked_4c.gif"/>
          <p:cNvPicPr/>
          <p:nvPr/>
        </p:nvPicPr>
        <p:blipFill>
          <a:blip r:embed="rId1"/>
          <a:stretch/>
        </p:blipFill>
        <p:spPr>
          <a:xfrm>
            <a:off x="4613400" y="4389480"/>
            <a:ext cx="1247760" cy="752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Page d'accueil IPN"/>
          <p:cNvPicPr/>
          <p:nvPr/>
        </p:nvPicPr>
        <p:blipFill>
          <a:blip r:embed="rId2"/>
          <a:stretch/>
        </p:blipFill>
        <p:spPr>
          <a:xfrm>
            <a:off x="6137280" y="4346640"/>
            <a:ext cx="1174680" cy="736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9" descr="http://spyur.am/images/logo/3578.png"/>
          <p:cNvPicPr/>
          <p:nvPr/>
        </p:nvPicPr>
        <p:blipFill>
          <a:blip r:embed="rId3"/>
          <a:stretch/>
        </p:blipFill>
        <p:spPr>
          <a:xfrm>
            <a:off x="7753320" y="4354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3" descr="https://encrypted-tbn3.gstatic.com/images?q=tbn:ANd9GcR1q_t7wxBoSGsHXPjqgt3ikARx7rYuk7Q0YVLy_QZxWC2W09HlOA"/>
          <p:cNvPicPr/>
          <p:nvPr/>
        </p:nvPicPr>
        <p:blipFill>
          <a:blip r:embed="rId4"/>
          <a:stretch/>
        </p:blipFill>
        <p:spPr>
          <a:xfrm>
            <a:off x="4786200" y="5246640"/>
            <a:ext cx="1351080" cy="4953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25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7" descr="http://ve4xm.caltech.edu/Bellan_plasma_page/citlogo.gif"/>
          <p:cNvPicPr/>
          <p:nvPr/>
        </p:nvPicPr>
        <p:blipFill>
          <a:blip r:embed="rId5"/>
          <a:stretch/>
        </p:blipFill>
        <p:spPr>
          <a:xfrm>
            <a:off x="6329520" y="514188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https://media.licdn.com/media/p/8/000/1b0/285/155a4a9.png"/>
          <p:cNvPicPr/>
          <p:nvPr/>
        </p:nvPicPr>
        <p:blipFill>
          <a:blip r:embed="rId6"/>
          <a:stretch/>
        </p:blipFill>
        <p:spPr>
          <a:xfrm>
            <a:off x="7165800" y="5311800"/>
            <a:ext cx="146052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 up infrastructure for crystal testing at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545000" y="941400"/>
            <a:ext cx="467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N-Orsay group: </a:t>
            </a:r>
            <a:r>
              <a:rPr b="0" lang="en-US" sz="1100" spc="-1" strike="noStrike">
                <a:solidFill>
                  <a:srgbClr val="0505ff"/>
                </a:solidFill>
                <a:latin typeface="Arial"/>
              </a:rPr>
              <a:t>Gabriel Charles, Giulia Hull, Carlos Munoz-Camach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95890-7D15-40E8-A587-9B10E38B52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1"/>
          <a:stretch/>
        </p:blipFill>
        <p:spPr>
          <a:xfrm>
            <a:off x="5338800" y="1515960"/>
            <a:ext cx="1709640" cy="1278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"/>
          <p:cNvPicPr/>
          <p:nvPr/>
        </p:nvPicPr>
        <p:blipFill>
          <a:blip r:embed="rId2"/>
          <a:stretch/>
        </p:blipFill>
        <p:spPr>
          <a:xfrm>
            <a:off x="7086600" y="1515960"/>
            <a:ext cx="1946160" cy="1390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1"/>
          <p:cNvSpPr/>
          <p:nvPr/>
        </p:nvSpPr>
        <p:spPr>
          <a:xfrm>
            <a:off x="528480" y="1371600"/>
            <a:ext cx="441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n Cary 5000 (IPNO)and Perkin Elmer Lambda 750 spectrometers (CU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87200" y="4267080"/>
            <a:ext cx="3708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light y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65240" y="990720"/>
            <a:ext cx="460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Transmit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838080" y="1882800"/>
            <a:ext cx="400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s absorption along and across the crystal with 1 nm wavelength resolution between 200 and 800 n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496800" y="2728800"/>
            <a:ext cx="44514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was commissioned with BTCP crystals on loan from University of Gies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474840" y="3305160"/>
            <a:ext cx="45208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ccommodate 20-cm or longer crystals more versatile configurations were designed and are being bui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1" descr="Page d'accueil IPN"/>
          <p:cNvPicPr/>
          <p:nvPr/>
        </p:nvPicPr>
        <p:blipFill>
          <a:blip r:embed="rId3"/>
          <a:stretch/>
        </p:blipFill>
        <p:spPr>
          <a:xfrm>
            <a:off x="6586560" y="31680"/>
            <a:ext cx="1174680" cy="73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2" descr="CUAcenterstacked_4c.gif"/>
          <p:cNvPicPr/>
          <p:nvPr/>
        </p:nvPicPr>
        <p:blipFill>
          <a:blip r:embed="rId4"/>
          <a:stretch/>
        </p:blipFill>
        <p:spPr>
          <a:xfrm>
            <a:off x="7896240" y="14400"/>
            <a:ext cx="1247760" cy="75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"/>
          <p:cNvPicPr/>
          <p:nvPr/>
        </p:nvPicPr>
        <p:blipFill>
          <a:blip r:embed="rId5"/>
          <a:stretch/>
        </p:blipFill>
        <p:spPr>
          <a:xfrm>
            <a:off x="5308560" y="2994120"/>
            <a:ext cx="1955880" cy="104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rystal3_position"/>
          <p:cNvPicPr/>
          <p:nvPr/>
        </p:nvPicPr>
        <p:blipFill>
          <a:blip r:embed="rId6"/>
          <a:stretch/>
        </p:blipFill>
        <p:spPr>
          <a:xfrm>
            <a:off x="7378560" y="2979720"/>
            <a:ext cx="1613160" cy="1211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1"/>
          <p:cNvSpPr/>
          <p:nvPr/>
        </p:nvSpPr>
        <p:spPr>
          <a:xfrm>
            <a:off x="4995720" y="1150920"/>
            <a:ext cx="4148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A group: </a:t>
            </a:r>
            <a:r>
              <a:rPr b="0" lang="en-US" sz="1100" spc="-1" strike="noStrike">
                <a:solidFill>
                  <a:srgbClr val="0505ff"/>
                </a:solidFill>
                <a:latin typeface="Arial"/>
              </a:rPr>
              <a:t>Marco Carmignotto, Arthur Mkrtchyan, Tanja Hor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490680" y="4692600"/>
            <a:ext cx="3624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up is currently being built with a source and calibrated P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490680" y="5264280"/>
            <a:ext cx="3471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-control of the setup is being explo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177840" y="5954760"/>
            <a:ext cx="3936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 for irradiation at the universities are being explor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"/>
          <p:cNvGrpSpPr/>
          <p:nvPr/>
        </p:nvGrpSpPr>
        <p:grpSpPr>
          <a:xfrm>
            <a:off x="4317840" y="4451400"/>
            <a:ext cx="3175200" cy="2073240"/>
            <a:chOff x="4317840" y="4451400"/>
            <a:chExt cx="3175200" cy="2073240"/>
          </a:xfrm>
        </p:grpSpPr>
        <p:pic>
          <p:nvPicPr>
            <p:cNvPr id="337" name="Picture 2" descr=""/>
            <p:cNvPicPr/>
            <p:nvPr/>
          </p:nvPicPr>
          <p:blipFill>
            <a:blip r:embed="rId7"/>
            <a:stretch/>
          </p:blipFill>
          <p:spPr>
            <a:xfrm>
              <a:off x="4317840" y="4451400"/>
              <a:ext cx="29959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Line 3"/>
            <p:cNvSpPr/>
            <p:nvPr/>
          </p:nvSpPr>
          <p:spPr>
            <a:xfrm>
              <a:off x="4484160" y="5078880"/>
              <a:ext cx="640440" cy="48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4"/>
            <p:cNvSpPr/>
            <p:nvPr/>
          </p:nvSpPr>
          <p:spPr>
            <a:xfrm flipV="1">
              <a:off x="6048720" y="5471640"/>
              <a:ext cx="237240" cy="40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6642000" y="5487480"/>
              <a:ext cx="71640" cy="58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5075280" y="4817520"/>
              <a:ext cx="379800" cy="67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4505760" y="4451400"/>
              <a:ext cx="11390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Lead blocks to avoid multiple hit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5807880" y="5847480"/>
              <a:ext cx="5695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Na-2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9"/>
            <p:cNvSpPr/>
            <p:nvPr/>
          </p:nvSpPr>
          <p:spPr>
            <a:xfrm>
              <a:off x="6193800" y="6087600"/>
              <a:ext cx="12992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Trigger scintillato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(5mm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4350240" y="4817520"/>
              <a:ext cx="7358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PW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4356360" y="5801400"/>
              <a:ext cx="7185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PM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>
              <a:off x="4545000" y="6076800"/>
              <a:ext cx="29484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8" name="Picture 6" descr=""/>
          <p:cNvPicPr/>
          <p:nvPr/>
        </p:nvPicPr>
        <p:blipFill>
          <a:blip r:embed="rId8"/>
          <a:srcRect l="2188" t="8694" r="7705" b="804"/>
          <a:stretch/>
        </p:blipFill>
        <p:spPr>
          <a:xfrm>
            <a:off x="7313760" y="4451400"/>
            <a:ext cx="1765080" cy="1050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9"/>
          <a:srcRect l="2046" t="8371" r="7820" b="3232"/>
          <a:stretch/>
        </p:blipFill>
        <p:spPr>
          <a:xfrm>
            <a:off x="7378560" y="5541840"/>
            <a:ext cx="1700280" cy="987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4572000" y="941400"/>
            <a:ext cx="45068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Rounded Rectangle 25"/>
          <p:cNvGrpSpPr/>
          <p:nvPr/>
        </p:nvGrpSpPr>
        <p:grpSpPr>
          <a:xfrm>
            <a:off x="182520" y="4114800"/>
            <a:ext cx="7516800" cy="396720"/>
            <a:chOff x="182520" y="4114800"/>
            <a:chExt cx="7516800" cy="396720"/>
          </a:xfrm>
        </p:grpSpPr>
        <p:pic>
          <p:nvPicPr>
            <p:cNvPr id="352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182520" y="4114800"/>
              <a:ext cx="75168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00160" y="4133880"/>
              <a:ext cx="7476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Rounded Rectangle 1"/>
          <p:cNvGrpSpPr/>
          <p:nvPr/>
        </p:nvGrpSpPr>
        <p:grpSpPr>
          <a:xfrm>
            <a:off x="122400" y="2468520"/>
            <a:ext cx="5308560" cy="835200"/>
            <a:chOff x="122400" y="2468520"/>
            <a:chExt cx="5308560" cy="835200"/>
          </a:xfrm>
        </p:grpSpPr>
        <p:pic>
          <p:nvPicPr>
            <p:cNvPr id="355" name="Rounded Rectangle 1" descr=""/>
            <p:cNvPicPr/>
            <p:nvPr/>
          </p:nvPicPr>
          <p:blipFill>
            <a:blip r:embed="rId2"/>
            <a:stretch/>
          </p:blipFill>
          <p:spPr>
            <a:xfrm>
              <a:off x="122400" y="2468520"/>
              <a:ext cx="53085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63440" y="2513160"/>
              <a:ext cx="52293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lity tests of 2014 produced SIC PWO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152280" y="914400"/>
            <a:ext cx="8793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tests carried out at JLab, Caltech, BNL, and Giess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 th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C39C-55F9-46B3-9C3D-473F72C9F4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4" descr=""/>
          <p:cNvPicPr/>
          <p:nvPr/>
        </p:nvPicPr>
        <p:blipFill>
          <a:blip r:embed="rId3"/>
          <a:stretch/>
        </p:blipFill>
        <p:spPr>
          <a:xfrm>
            <a:off x="6400800" y="12600"/>
            <a:ext cx="1084320" cy="79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4"/>
          <a:stretch/>
        </p:blipFill>
        <p:spPr>
          <a:xfrm>
            <a:off x="7400880" y="-11160"/>
            <a:ext cx="1784520" cy="843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380880" y="1338120"/>
            <a:ext cx="50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ystals are of better quality than previous 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380880" y="1752480"/>
            <a:ext cx="5105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set of the crystal samples is consistent with CMS quality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2814480" y="2057400"/>
            <a:ext cx="244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147806"/>
                </a:solidFill>
                <a:latin typeface="Arial"/>
              </a:rPr>
              <a:t>[IEEE Trans.Nucl. Sci. NS-51 1777]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1" descr=""/>
          <p:cNvPicPr/>
          <p:nvPr/>
        </p:nvPicPr>
        <p:blipFill>
          <a:blip r:embed="rId5"/>
          <a:srcRect l="7645" t="15257" r="6756" b="15442"/>
          <a:stretch/>
        </p:blipFill>
        <p:spPr>
          <a:xfrm>
            <a:off x="5165640" y="4595760"/>
            <a:ext cx="3368880" cy="2106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8" descr=""/>
          <p:cNvPicPr/>
          <p:nvPr/>
        </p:nvPicPr>
        <p:blipFill>
          <a:blip r:embed="rId6"/>
          <a:stretch/>
        </p:blipFill>
        <p:spPr>
          <a:xfrm>
            <a:off x="2814480" y="4576680"/>
            <a:ext cx="2160720" cy="2057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2400" y="2471760"/>
            <a:ext cx="50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ll need to determine crystal homogene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7"/>
          <a:stretch/>
        </p:blipFill>
        <p:spPr>
          <a:xfrm>
            <a:off x="181080" y="4633920"/>
            <a:ext cx="2454120" cy="18129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122400" y="3379680"/>
            <a:ext cx="8793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irradiation with beam in Idaho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te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a subset of crystals in Giessen suggest that crystals have high radiation res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58760" y="2895480"/>
            <a:ext cx="53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up dependent systematic effects under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58760" y="4140360"/>
            <a:ext cx="77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tests to better understand radiation damage effects under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traight Connector 3"/>
          <p:cNvSpPr/>
          <p:nvPr/>
        </p:nvSpPr>
        <p:spPr>
          <a:xfrm>
            <a:off x="5556240" y="5181480"/>
            <a:ext cx="2317680" cy="0"/>
          </a:xfrm>
          <a:prstGeom prst="line">
            <a:avLst/>
          </a:prstGeom>
          <a:ln w="255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593040" y="4935600"/>
            <a:ext cx="14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05ff"/>
                </a:solidFill>
                <a:latin typeface="Arial"/>
              </a:rPr>
              <a:t>PANDA Crystal spe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9"/>
          <p:cNvSpPr/>
          <p:nvPr/>
        </p:nvSpPr>
        <p:spPr>
          <a:xfrm>
            <a:off x="6045120" y="2905200"/>
            <a:ext cx="2395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147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147806"/>
                </a:solidFill>
                <a:latin typeface="Arial"/>
              </a:rPr>
              <a:t>Systematic differences between setu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8"/>
          <a:srcRect l="8272" t="0" r="0" b="5600"/>
          <a:stretch/>
        </p:blipFill>
        <p:spPr>
          <a:xfrm>
            <a:off x="8153280" y="1617840"/>
            <a:ext cx="990720" cy="10699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2"/>
          <p:cNvSpPr/>
          <p:nvPr/>
        </p:nvSpPr>
        <p:spPr>
          <a:xfrm>
            <a:off x="6029280" y="13716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JLa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2"/>
          <p:cNvGrpSpPr/>
          <p:nvPr/>
        </p:nvGrpSpPr>
        <p:grpSpPr>
          <a:xfrm>
            <a:off x="6805080" y="1590840"/>
            <a:ext cx="1371960" cy="1179360"/>
            <a:chOff x="6805080" y="1590840"/>
            <a:chExt cx="1371960" cy="1179360"/>
          </a:xfrm>
        </p:grpSpPr>
        <p:graphicFrame>
          <p:nvGraphicFramePr>
            <p:cNvPr id="380" name="Object 1"/>
            <p:cNvGraphicFramePr/>
            <p:nvPr/>
          </p:nvGraphicFramePr>
          <p:xfrm>
            <a:off x="6811560" y="1590840"/>
            <a:ext cx="1365480" cy="11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1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1560" y="1590840"/>
                      <a:ext cx="1365480" cy="11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Rectangle 1"/>
            <p:cNvSpPr/>
            <p:nvPr/>
          </p:nvSpPr>
          <p:spPr>
            <a:xfrm>
              <a:off x="7425360" y="2711880"/>
              <a:ext cx="319320" cy="5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32"/>
            <p:cNvSpPr/>
            <p:nvPr/>
          </p:nvSpPr>
          <p:spPr>
            <a:xfrm rot="5400000">
              <a:off x="6650280" y="2135520"/>
              <a:ext cx="354600" cy="4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Box 3"/>
          <p:cNvSpPr/>
          <p:nvPr/>
        </p:nvSpPr>
        <p:spPr>
          <a:xfrm>
            <a:off x="8134200" y="2681280"/>
            <a:ext cx="100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velength (nm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1" descr=""/>
          <p:cNvPicPr/>
          <p:nvPr/>
        </p:nvPicPr>
        <p:blipFill>
          <a:blip r:embed="rId11"/>
          <a:srcRect l="13430" t="48683" r="47300" b="15773"/>
          <a:stretch/>
        </p:blipFill>
        <p:spPr>
          <a:xfrm>
            <a:off x="5572080" y="1581120"/>
            <a:ext cx="1287360" cy="1165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1"/>
          <p:cNvSpPr/>
          <p:nvPr/>
        </p:nvSpPr>
        <p:spPr>
          <a:xfrm rot="16200000">
            <a:off x="5031360" y="196740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ance (%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7323120" y="1371600"/>
            <a:ext cx="525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BN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32"/>
          <p:cNvSpPr/>
          <p:nvPr/>
        </p:nvSpPr>
        <p:spPr>
          <a:xfrm>
            <a:off x="8299440" y="1371600"/>
            <a:ext cx="65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Caltec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7524720" y="6629400"/>
            <a:ext cx="100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velength (nm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Rounded Rectangle 1"/>
          <p:cNvGrpSpPr/>
          <p:nvPr/>
        </p:nvGrpSpPr>
        <p:grpSpPr>
          <a:xfrm>
            <a:off x="176040" y="5132520"/>
            <a:ext cx="3865680" cy="1573200"/>
            <a:chOff x="176040" y="5132520"/>
            <a:chExt cx="3865680" cy="1573200"/>
          </a:xfrm>
        </p:grpSpPr>
        <p:pic>
          <p:nvPicPr>
            <p:cNvPr id="391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176040" y="5132520"/>
              <a:ext cx="38656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52360" y="5210280"/>
              <a:ext cx="371016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3" name="Grafik 1" descr=""/>
          <p:cNvPicPr/>
          <p:nvPr/>
        </p:nvPicPr>
        <p:blipFill>
          <a:blip r:embed="rId2"/>
          <a:stretch/>
        </p:blipFill>
        <p:spPr>
          <a:xfrm>
            <a:off x="4338720" y="3881520"/>
            <a:ext cx="4605120" cy="2562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20150515_103052"/>
          <p:cNvPicPr/>
          <p:nvPr/>
        </p:nvPicPr>
        <p:blipFill>
          <a:blip r:embed="rId3"/>
          <a:srcRect l="0" t="31818" r="0" b="14343"/>
          <a:stretch/>
        </p:blipFill>
        <p:spPr>
          <a:xfrm>
            <a:off x="7064280" y="0"/>
            <a:ext cx="2086200" cy="631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7467480" y="4648320"/>
            <a:ext cx="914400" cy="514080"/>
          </a:xfrm>
          <a:prstGeom prst="rect">
            <a:avLst/>
          </a:prstGeom>
          <a:noFill/>
          <a:ln w="414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-936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-468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us of CRYTUR Crystal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65240" y="990720"/>
            <a:ext cx="418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Arial"/>
              </a:rPr>
              <a:t>First full-size crystal produced with size 2x2x20cm</a:t>
            </a:r>
            <a:r>
              <a:rPr b="0" lang="en-US" sz="1800" spc="-1" strike="noStrike" baseline="30000">
                <a:solidFill>
                  <a:srgbClr val="2d2db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0880" y="2292480"/>
            <a:ext cx="3543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ongitudinal inhomogene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380880" y="1649520"/>
            <a:ext cx="33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d using raw material from BT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65240" y="2743200"/>
            <a:ext cx="417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of optical and radiation hardness studies suggest tha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457200" y="3994200"/>
            <a:ext cx="3881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rystals have sufficient light y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457200" y="4410000"/>
            <a:ext cx="37782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rystals are radiation hard for  dose rates go up to 100 Gy (spec: 30 G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412920" y="3381480"/>
            <a:ext cx="385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ittance falls within 8% of the BTCP crystals at 420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Grafik 5" descr=""/>
          <p:cNvPicPr/>
          <p:nvPr/>
        </p:nvPicPr>
        <p:blipFill>
          <a:blip r:embed="rId4"/>
          <a:stretch/>
        </p:blipFill>
        <p:spPr>
          <a:xfrm>
            <a:off x="4694400" y="990720"/>
            <a:ext cx="4190760" cy="25527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1"/>
          <p:cNvSpPr/>
          <p:nvPr/>
        </p:nvSpPr>
        <p:spPr>
          <a:xfrm>
            <a:off x="176040" y="5133960"/>
            <a:ext cx="417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at CRYTU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457200" y="5518080"/>
            <a:ext cx="3733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upgrades expected mid-July; production in Augu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57200" y="6172200"/>
            <a:ext cx="381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paid orders of R&amp;D crystals from Giessen and Upps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Rounded Rectangle 25"/>
          <p:cNvGrpSpPr/>
          <p:nvPr/>
        </p:nvGrpSpPr>
        <p:grpSpPr>
          <a:xfrm>
            <a:off x="304920" y="5943600"/>
            <a:ext cx="8242200" cy="676440"/>
            <a:chOff x="304920" y="5943600"/>
            <a:chExt cx="8242200" cy="676440"/>
          </a:xfrm>
        </p:grpSpPr>
        <p:pic>
          <p:nvPicPr>
            <p:cNvPr id="410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304920" y="5943600"/>
              <a:ext cx="82422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38040" y="5977080"/>
              <a:ext cx="81774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Rounded Rectangle 24"/>
          <p:cNvGrpSpPr/>
          <p:nvPr/>
        </p:nvGrpSpPr>
        <p:grpSpPr>
          <a:xfrm>
            <a:off x="281160" y="3505320"/>
            <a:ext cx="4522680" cy="676080"/>
            <a:chOff x="281160" y="3505320"/>
            <a:chExt cx="4522680" cy="676080"/>
          </a:xfrm>
        </p:grpSpPr>
        <p:pic>
          <p:nvPicPr>
            <p:cNvPr id="413" name="Rounded Rectangle 24" descr=""/>
            <p:cNvPicPr/>
            <p:nvPr/>
          </p:nvPicPr>
          <p:blipFill>
            <a:blip r:embed="rId2"/>
            <a:stretch/>
          </p:blipFill>
          <p:spPr>
            <a:xfrm>
              <a:off x="281160" y="3505320"/>
              <a:ext cx="45226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2840" y="3538440"/>
              <a:ext cx="44542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s for FY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05A69-117B-43AD-B081-DDA06982B1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3"/>
          <a:srcRect l="8554" t="27025" r="4609" b="39307"/>
          <a:stretch/>
        </p:blipFill>
        <p:spPr>
          <a:xfrm>
            <a:off x="5486400" y="1030320"/>
            <a:ext cx="3527280" cy="1027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4"/>
          <a:srcRect l="1473" t="4936" r="2760" b="13337"/>
          <a:stretch/>
        </p:blipFill>
        <p:spPr>
          <a:xfrm>
            <a:off x="5486400" y="2281320"/>
            <a:ext cx="3527280" cy="22572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1"/>
          <p:cNvSpPr/>
          <p:nvPr/>
        </p:nvSpPr>
        <p:spPr>
          <a:xfrm>
            <a:off x="76320" y="914400"/>
            <a:ext cx="5246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 infrastructure for crystal testing at, e.g., IPNO and understand systematic effects in the characterization of SIC crys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341280" y="3517920"/>
            <a:ext cx="4884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 essential aspect to quantify homogeneity of crystals produced at 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365040" y="1828800"/>
            <a:ext cx="4861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nergistic with independent research for the Neutral Particle Spectrometer project at J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685800" y="2438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part of this project a set of SIC crystals has been investi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685800" y="2895480"/>
            <a:ext cx="4540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st setup including optical properties and crystal homogeneity is being developed at C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76320" y="4384800"/>
            <a:ext cx="52466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ure full-sized crystals from Crytur and evaluate crystal-to-crystal var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50760" y="5105520"/>
            <a:ext cx="89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prototype to study the crystals in test beam and measure the actual energy and position resolution – also allows for testing a SiPM-based read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90520" y="5943600"/>
            <a:ext cx="8258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easurements would provide additional important information on crystal specifications and their impact on EIC detecto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5486400" y="4572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utral Particle Spectrometer prototype produced with 3D printing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1FF85-C138-424B-89B8-BBCF8923AD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295280" y="1144440"/>
            <a:ext cx="615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Goals: Optimize geometry, cooling, and choices of readout system of the endcap inner calori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512640" y="2679840"/>
            <a:ext cx="7864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and choice of temperature are important aspects for crystal calorimetry. The choice of temperature balances light output and radiation recover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525600" y="3459240"/>
            <a:ext cx="80420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techniques have been explored for PANDA and CMS. The type of cooling and avoiding condensation depend to some extend on environmental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76320" y="4336920"/>
            <a:ext cx="8305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if cooling is the optimal choice to reduce readout noise and if it is how to implement such a syst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76320" y="2176560"/>
            <a:ext cx="8940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how cooling could be achieved for the inner endcap calorimeter for E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704880" y="5086440"/>
            <a:ext cx="78645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initial studies with a SiPM-based readout have shown significant effects of noise at room temperature emphasizing the need for cool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1295280" y="1144440"/>
            <a:ext cx="6324840" cy="70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431BF-643E-4A9A-B3EF-70D511CA60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1066680"/>
          <a:ext cx="6613560" cy="2438640"/>
        </p:xfrm>
        <a:graphic>
          <a:graphicData uri="http://schemas.openxmlformats.org/drawingml/2006/table">
            <a:tbl>
              <a:tblPr/>
              <a:tblGrid>
                <a:gridCol w="2212920"/>
                <a:gridCol w="541440"/>
                <a:gridCol w="558720"/>
                <a:gridCol w="517680"/>
                <a:gridCol w="517680"/>
                <a:gridCol w="582480"/>
                <a:gridCol w="517680"/>
                <a:gridCol w="582480"/>
                <a:gridCol w="582480"/>
              </a:tblGrid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6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7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ure crystals from Cryt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stal quality te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 Damage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 prototyp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prototyp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orimeter configur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ling system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out syst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out noise redu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895480" y="3886200"/>
          <a:ext cx="5699160" cy="2133720"/>
        </p:xfrm>
        <a:graphic>
          <a:graphicData uri="http://schemas.openxmlformats.org/drawingml/2006/table">
            <a:tbl>
              <a:tblPr/>
              <a:tblGrid>
                <a:gridCol w="2992680"/>
                <a:gridCol w="1352520"/>
                <a:gridCol w="135396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6 ($K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7 ($k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LA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N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tec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PN Ors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759720" y="1066680"/>
          <a:ext cx="2265120" cy="2438640"/>
        </p:xfrm>
        <a:graphic>
          <a:graphicData uri="http://schemas.openxmlformats.org/drawingml/2006/table">
            <a:tbl>
              <a:tblPr/>
              <a:tblGrid>
                <a:gridCol w="582480"/>
                <a:gridCol w="517680"/>
                <a:gridCol w="582480"/>
                <a:gridCol w="582480"/>
              </a:tblGrid>
              <a:tr h="222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8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5:00:19Z</dcterms:created>
  <dc:creator>Tanja Horn</dc:creator>
  <dc:description/>
  <dc:language>en-US</dc:language>
  <cp:lastModifiedBy>hornt</cp:lastModifiedBy>
  <cp:lastPrinted>2014-04-03T17:43:53Z</cp:lastPrinted>
  <dcterms:modified xsi:type="dcterms:W3CDTF">2015-07-01T03:19:00Z</dcterms:modified>
  <cp:revision>2353</cp:revision>
  <dc:subject/>
  <dc:title>Exclusive pion/kaon production at 6&amp;12GeV JLab and EIC</dc:title>
</cp:coreProperties>
</file>